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25CB6-379A-447A-8B5E-E4DF71307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88FC-DB6A-4566-A3A4-90E21895B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9E4B8-0A1D-4B04-8C31-9312B2083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83EBD-6991-459C-9818-1FACCFC13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5E2A-D231-4D02-ACE2-A6D4A513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3EB41-36CD-4BB0-8B2B-323FEC68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27D74-A195-4527-85DC-9263FAC2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6F2A-F350-49E0-BC49-B88E65ED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5FA29-3146-4068-A404-1266DD748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C05CE-1E6B-4194-B728-27F9DA28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2DE0-754D-4BB6-B1B3-D38014DE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55D3-88D2-459B-B888-E369838B5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A96D-B531-4393-A7A3-F690593942B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ielsucht@t-online.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1" name=""/>
          <p:cNvSpPr/>
          <p:nvPr/>
        </p:nvSpPr>
        <p:spPr>
          <a:xfrm>
            <a:off x="6934320" y="457200"/>
            <a:ext cx="2476440" cy="2949840"/>
          </a:xfrm>
          <a:prstGeom prst="rect">
            <a:avLst/>
          </a:prstGeom>
          <a:gradFill rotWithShape="0">
            <a:gsLst>
              <a:gs pos="0">
                <a:srgbClr val="eaeaea"/>
              </a:gs>
              <a:gs pos="100000">
                <a:srgbClr val="b2b2b2"/>
              </a:gs>
            </a:gsLst>
            <a:lin ang="135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Jens Flassbeck</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Ilona Füchtenschnieder</a:t>
            </a:r>
            <a:endParaRPr b="0" lang="en-US" sz="1600" spc="-1" strike="noStrike">
              <a:solidFill>
                <a:srgbClr val="000000"/>
              </a:solidFill>
              <a:latin typeface="Times New Roman"/>
            </a:endParaRPr>
          </a:p>
          <a:p>
            <a:pPr algn="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Gudrun Plauman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Beratungsstelle für</a:t>
            </a:r>
            <a:endParaRPr b="0" lang="en-US" sz="1600" spc="-1" strike="noStrike">
              <a:solidFill>
                <a:srgbClr val="000000"/>
              </a:solidFill>
              <a:latin typeface="Times New Roman"/>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Glücksspielabhängige und ihre Angehörige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ea typeface="Times New Roman"/>
              </a:rPr>
              <a:t>Diakonisches Werk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Auf der Freiheit 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32052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05221 / 59 98 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Narrow"/>
                <a:ea typeface="Times New Roman"/>
                <a:hlinkClick r:id="rId1"/>
              </a:rPr>
              <a:t>spielsucht@t-online.de</a:t>
            </a:r>
            <a:endParaRPr b="0" lang="en-US" sz="1400" spc="-1" strike="noStrike">
              <a:solidFill>
                <a:srgbClr val="000000"/>
              </a:solidFill>
              <a:latin typeface="Times New Roman"/>
            </a:endParaRPr>
          </a:p>
        </p:txBody>
      </p:sp>
      <p:sp>
        <p:nvSpPr>
          <p:cNvPr id="42" name=""/>
          <p:cNvSpPr/>
          <p:nvPr/>
        </p:nvSpPr>
        <p:spPr>
          <a:xfrm>
            <a:off x="743040" y="3809880"/>
            <a:ext cx="8502480" cy="28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ea typeface="Times New Roman"/>
              </a:rPr>
              <a:t>Glücksspielsucht:</a:t>
            </a:r>
            <a:endParaRPr b="0" lang="en-US" sz="3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Ambulante Angebotsstrukturen in Nord-Rhein-Westfale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 Bestandsaufnahme 1997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981080" y="5867280"/>
            <a:ext cx="726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69"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1320840" y="1676520"/>
          <a:ext cx="7594560" cy="4572000"/>
        </p:xfrm>
        <a:graphic>
          <a:graphicData uri="http://schemas.openxmlformats.org/presentationml/2006/ole">
            <p:oleObj progId="Excel.Sheet.12" r:id="rId1" spid="">
              <p:embed/>
              <p:pic>
                <p:nvPicPr>
                  <p:cNvPr id="71" name="" descr=""/>
                  <p:cNvPicPr/>
                  <p:nvPr/>
                </p:nvPicPr>
                <p:blipFill>
                  <a:blip r:embed="rId2"/>
                  <a:stretch/>
                </p:blipFill>
                <p:spPr>
                  <a:xfrm>
                    <a:off x="1320840" y="1676520"/>
                    <a:ext cx="7594560" cy="4572000"/>
                  </a:xfrm>
                  <a:prstGeom prst="rect">
                    <a:avLst/>
                  </a:prstGeom>
                  <a:ln w="0">
                    <a:noFill/>
                  </a:ln>
                </p:spPr>
              </p:pic>
            </p:oleObj>
          </a:graphicData>
        </a:graphic>
      </p:graphicFrame>
      <p:sp>
        <p:nvSpPr>
          <p:cNvPr id="3" name="PlaceHolder 2"/>
          <p:cNvSpPr>
            <a:spLocks noGrp="1"/>
          </p:cNvSpPr>
          <p:nvPr>
            <p:ph type="sldNum" idx="3"/>
          </p:nvPr>
        </p:nvSpPr>
        <p:spPr/>
        <p:txBody>
          <a:bodyPr/>
          <a:p>
            <a:fld id="{439F2014-D7FB-44DA-BDA3-4BDD67A50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81 Suchtberatungen fanden 63% aller Intensivkontakte zu Spielern und 53% zu Angehörigen statt.</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ier Spielerberatungen hatten einen Beratungsanteil von 23% (Spieler) und 35% (Angehörige).</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Spielerberatungen scheinen demnach Angehörige eher zu erreichen und in den Beratungsprozess einzubeziehen als Sucht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eitere 11 Drogenberatungen und 11 Gesundheitsämter spielen mit 12% eine eher marginale Rolle.</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C0E15FA7-7530-4DE6-9B5A-E55FBEB53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5"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1295280" y="1905120"/>
          <a:ext cx="7473960" cy="4649760"/>
        </p:xfrm>
        <a:graphic>
          <a:graphicData uri="http://schemas.openxmlformats.org/presentationml/2006/ole">
            <p:oleObj progId="Excel.Sheet.12" r:id="rId1" spid="">
              <p:embed/>
              <p:pic>
                <p:nvPicPr>
                  <p:cNvPr id="77" name="" descr=""/>
                  <p:cNvPicPr/>
                  <p:nvPr/>
                </p:nvPicPr>
                <p:blipFill>
                  <a:blip r:embed="rId2"/>
                  <a:stretch/>
                </p:blipFill>
                <p:spPr>
                  <a:xfrm>
                    <a:off x="1295280" y="1905120"/>
                    <a:ext cx="7473960" cy="4649760"/>
                  </a:xfrm>
                  <a:prstGeom prst="rect">
                    <a:avLst/>
                  </a:prstGeom>
                  <a:ln w="0">
                    <a:noFill/>
                  </a:ln>
                </p:spPr>
              </p:pic>
            </p:oleObj>
          </a:graphicData>
        </a:graphic>
      </p:graphicFrame>
      <p:sp>
        <p:nvSpPr>
          <p:cNvPr id="3" name="PlaceHolder 2"/>
          <p:cNvSpPr>
            <a:spLocks noGrp="1"/>
          </p:cNvSpPr>
          <p:nvPr>
            <p:ph type="sldNum" idx="3"/>
          </p:nvPr>
        </p:nvSpPr>
        <p:spPr/>
        <p:txBody>
          <a:bodyPr/>
          <a:p>
            <a:fld id="{4699882C-8615-44A8-83B0-93CBE008D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r überwiegende Teil der Suchtberatungen hatte in 1997 Intensivkontakte zu Spielern.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wenige Drogenberatungen engagieren sich in der Spielerberatung.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älfte der Gesundheitsämter akzeptieren Spieler als Klientel.</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 richten sich folglich in erster Linie an Suchtberatungen und werden hier aufgenommen. Drogenberatungen werden von Spielern weniger kontaktiert bzw., falls doch ein Kontakt zustande kommt, vermitteln sie Spieler eher wei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608421C0-5A1F-4C85-B7C9-AA5BBD0B4B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1"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1295280" y="1676520"/>
          <a:ext cx="7099560" cy="4537080"/>
        </p:xfrm>
        <a:graphic>
          <a:graphicData uri="http://schemas.openxmlformats.org/presentationml/2006/ole">
            <p:oleObj progId="Excel.Sheet.12" r:id="rId1" spid="">
              <p:embed/>
              <p:pic>
                <p:nvPicPr>
                  <p:cNvPr id="83" name="" descr=""/>
                  <p:cNvPicPr/>
                  <p:nvPr/>
                </p:nvPicPr>
                <p:blipFill>
                  <a:blip r:embed="rId2"/>
                  <a:stretch/>
                </p:blipFill>
                <p:spPr>
                  <a:xfrm>
                    <a:off x="1295280" y="1676520"/>
                    <a:ext cx="7099560" cy="4537080"/>
                  </a:xfrm>
                  <a:prstGeom prst="rect">
                    <a:avLst/>
                  </a:prstGeom>
                  <a:ln w="0">
                    <a:noFill/>
                  </a:ln>
                </p:spPr>
              </p:pic>
            </p:oleObj>
          </a:graphicData>
        </a:graphic>
      </p:graphicFrame>
      <p:sp>
        <p:nvSpPr>
          <p:cNvPr id="84" name=""/>
          <p:cNvSpPr/>
          <p:nvPr/>
        </p:nvSpPr>
        <p:spPr>
          <a:xfrm>
            <a:off x="2889360" y="6019920"/>
            <a:ext cx="437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8298837-C4E7-4EBA-BBE8-6A48C3EC36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8" name=""/>
          <p:cNvGraphicFramePr/>
          <p:nvPr/>
        </p:nvGraphicFramePr>
        <p:xfrm>
          <a:off x="1238400" y="1905120"/>
          <a:ext cx="7326000" cy="4209840"/>
        </p:xfrm>
        <a:graphic>
          <a:graphicData uri="http://schemas.openxmlformats.org/presentationml/2006/ole">
            <p:oleObj progId="Excel.Sheet.12" r:id="rId1" spid="">
              <p:embed/>
              <p:pic>
                <p:nvPicPr>
                  <p:cNvPr id="89" name="" descr=""/>
                  <p:cNvPicPr/>
                  <p:nvPr/>
                </p:nvPicPr>
                <p:blipFill>
                  <a:blip r:embed="rId2"/>
                  <a:stretch/>
                </p:blipFill>
                <p:spPr>
                  <a:xfrm>
                    <a:off x="1238400" y="1905120"/>
                    <a:ext cx="7326000" cy="4209840"/>
                  </a:xfrm>
                  <a:prstGeom prst="rect">
                    <a:avLst/>
                  </a:prstGeom>
                  <a:ln w="0">
                    <a:noFill/>
                  </a:ln>
                </p:spPr>
              </p:pic>
            </p:oleObj>
          </a:graphicData>
        </a:graphic>
      </p:graphicFrame>
      <p:sp>
        <p:nvSpPr>
          <p:cNvPr id="90" name=""/>
          <p:cNvSpPr/>
          <p:nvPr/>
        </p:nvSpPr>
        <p:spPr>
          <a:xfrm>
            <a:off x="2889360" y="6019920"/>
            <a:ext cx="487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F81A79C-10B0-465F-BCF1-720E80BD0E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ben im Mittel erwartungsgemäß die mit Abstand meisten Intensivkontakte zu Spielern und ihren Angehöri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ige wenige Suchtberatungen kommen auf fast dieselben Fallzahlen wie die Spieler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uchtberatungen haben im Durchschnitt mehr Intensivkontakte als Drogenberatungen und Gesundheitsäm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8D76E1C7-0632-4B5F-99DF-285B9F5095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sätzliche stoffgebundene Abhängigkeit</a:t>
            </a:r>
            <a:endParaRPr b="0" lang="en-US" sz="3200" spc="-1" strike="noStrike">
              <a:solidFill>
                <a:srgbClr val="000000"/>
              </a:solidFill>
              <a:latin typeface="Times New Roman"/>
            </a:endParaRPr>
          </a:p>
        </p:txBody>
      </p:sp>
      <p:sp>
        <p:nvSpPr>
          <p:cNvPr id="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Drogenberatungen (27%) und Gesundheitsämtern (34%) weist ca. ein Drittel der spielsüchtigen Klientel eine weitere Substanzabhängigkeit auf.</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Spieler- und Suchtberatungen ist der Prozentsatz der Doppeldiagnose mit 14% deutlich niedrig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0D9B59DF-E381-47E7-A9DA-BFF61A64D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9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 name=""/>
          <p:cNvGraphicFramePr/>
          <p:nvPr/>
        </p:nvGraphicFramePr>
        <p:xfrm>
          <a:off x="1371600" y="1752480"/>
          <a:ext cx="6858000" cy="4867560"/>
        </p:xfrm>
        <a:graphic>
          <a:graphicData uri="http://schemas.openxmlformats.org/presentationml/2006/ole">
            <p:oleObj progId="Excel.Sheet.12" r:id="rId1" spid="">
              <p:embed/>
              <p:pic>
                <p:nvPicPr>
                  <p:cNvPr id="98" name="" descr=""/>
                  <p:cNvPicPr/>
                  <p:nvPr/>
                </p:nvPicPr>
                <p:blipFill>
                  <a:blip r:embed="rId2"/>
                  <a:stretch/>
                </p:blipFill>
                <p:spPr>
                  <a:xfrm>
                    <a:off x="1371600" y="1752480"/>
                    <a:ext cx="6858000" cy="4867560"/>
                  </a:xfrm>
                  <a:prstGeom prst="rect">
                    <a:avLst/>
                  </a:prstGeom>
                  <a:ln w="0">
                    <a:noFill/>
                  </a:ln>
                </p:spPr>
              </p:pic>
            </p:oleObj>
          </a:graphicData>
        </a:graphic>
      </p:graphicFrame>
      <p:sp>
        <p:nvSpPr>
          <p:cNvPr id="3" name="PlaceHolder 2"/>
          <p:cNvSpPr>
            <a:spLocks noGrp="1"/>
          </p:cNvSpPr>
          <p:nvPr>
            <p:ph type="sldNum" idx="3"/>
          </p:nvPr>
        </p:nvSpPr>
        <p:spPr/>
        <p:txBody>
          <a:bodyPr/>
          <a:p>
            <a:fld id="{8A85BA97-7541-4E5D-8B62-02A7621C5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1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lten ein deutlich differenzierteres Angebot für Spieler und Angehörige vor.</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rei Suchtberatungen mit über 40 Intensivkontakten haben ebenso spezialisierte Angebote aufzuweis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besteht ein signifikanter positiver Zusammenhang zwischen Klientenzahl und Differenzierungsgrad: Beratungsstellen mit vielen spielsüchtigen Klienten haben differenziertere Angebote als Stellen mit geringer Klientenzahl.</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EA0DF523-EBCD-4A2D-B937-549F99F02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r Situation</a:t>
            </a:r>
            <a:endParaRPr b="0" lang="en-US" sz="3200" spc="-1" strike="noStrike">
              <a:solidFill>
                <a:srgbClr val="000000"/>
              </a:solidFill>
              <a:latin typeface="Times New Roman"/>
            </a:endParaRPr>
          </a:p>
        </p:txBody>
      </p:sp>
      <p:sp>
        <p:nvSpPr>
          <p:cNvPr id="44" name=""/>
          <p:cNvSpPr/>
          <p:nvPr/>
        </p:nvSpPr>
        <p:spPr>
          <a:xfrm>
            <a:off x="685800" y="1981080"/>
            <a:ext cx="85345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Nord-Rhein-Westfalen gibt es drei spezielle Zentren für Glücksspielsucht (Herford, Neuss, Unna), welche modellhaft durch das Land gefördert werden (Gesamtkonzept Glücksspielsucht NRW, 1999). Bei geschätzten 17000 bis 20000 Glücksspielsüchtigen in NRW ist davon auszugehen, dass ihre Kapazitäten bei weitem nicht ausreichen, um den Beratungs- und Behandlungsbedarf zu beantwort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F6C815-63E1-40C4-9635-BF616CF31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 von Angeboten</a:t>
            </a:r>
            <a:endParaRPr b="0" lang="en-US" sz="3200" spc="-1" strike="noStrike">
              <a:solidFill>
                <a:srgbClr val="000000"/>
              </a:solidFill>
              <a:latin typeface="Times New Roman"/>
            </a:endParaRPr>
          </a:p>
        </p:txBody>
      </p:sp>
      <p:sp>
        <p:nvSpPr>
          <p:cNvPr id="10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4" name=""/>
          <p:cNvGraphicFramePr/>
          <p:nvPr/>
        </p:nvGraphicFramePr>
        <p:xfrm>
          <a:off x="457200" y="1676520"/>
          <a:ext cx="7391520" cy="5181480"/>
        </p:xfrm>
        <a:graphic>
          <a:graphicData uri="http://schemas.openxmlformats.org/presentationml/2006/ole">
            <p:oleObj progId="Excel.Sheet.12" r:id="rId1" spid="">
              <p:embed/>
              <p:pic>
                <p:nvPicPr>
                  <p:cNvPr id="105" name="" descr=""/>
                  <p:cNvPicPr/>
                  <p:nvPr/>
                </p:nvPicPr>
                <p:blipFill>
                  <a:blip r:embed="rId2"/>
                  <a:stretch/>
                </p:blipFill>
                <p:spPr>
                  <a:xfrm>
                    <a:off x="457200" y="1676520"/>
                    <a:ext cx="7391520" cy="5181480"/>
                  </a:xfrm>
                  <a:prstGeom prst="rect">
                    <a:avLst/>
                  </a:prstGeom>
                  <a:ln w="0">
                    <a:noFill/>
                  </a:ln>
                </p:spPr>
              </p:pic>
            </p:oleObj>
          </a:graphicData>
        </a:graphic>
      </p:graphicFrame>
      <p:sp>
        <p:nvSpPr>
          <p:cNvPr id="106" name=""/>
          <p:cNvSpPr/>
          <p:nvPr/>
        </p:nvSpPr>
        <p:spPr>
          <a:xfrm>
            <a:off x="6730920" y="3733920"/>
            <a:ext cx="3175200" cy="1784160"/>
          </a:xfrm>
          <a:prstGeom prst="rect">
            <a:avLst/>
          </a:prstGeom>
          <a:noFill/>
          <a:ln w="0">
            <a:noFill/>
          </a:ln>
        </p:spPr>
        <p:style>
          <a:lnRef idx="0"/>
          <a:fillRef idx="0"/>
          <a:effectRef idx="0"/>
          <a:fontRef idx="minor"/>
        </p:style>
        <p:txBody>
          <a:bodyPr lIns="90000" rIns="90000" tIns="46800" bIns="46800" anchor="t">
            <a:spAutoFit/>
          </a:bodyPr>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1 = Einzelberatung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2 = Einzelberatung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3 = Paar- und Familienberatung</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4 = Gruppe für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5 = Gruppe für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6 = gemischte Gruppe </a:t>
            </a: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5713AE98-CA8C-4560-AB6C-51ED6E6ABE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en von Angeboten</a:t>
            </a:r>
            <a:endParaRPr b="0" lang="en-US" sz="3200" spc="-1" strike="noStrike">
              <a:solidFill>
                <a:srgbClr val="000000"/>
              </a:solidFill>
              <a:latin typeface="Times New Roman"/>
            </a:endParaRPr>
          </a:p>
        </p:txBody>
      </p:sp>
      <p:sp>
        <p:nvSpPr>
          <p:cNvPr id="1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zel-, Paar- und Familienberatung ist ein Standard, den fast alle Beratungsstellen für Spieler und Angehörige anbiet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öhere Angebotsdifferenzierung der Spielerberatungen geht auf die speziellen Gruppenangebote zurück. </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eben den Spielerberatungen bieten auch die Suchtberatungen mit hoher Fallzahl Gruppen für Spieler und/oder Angehörige a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anderen Beratungsstellen integrieren Spieler und Angehörige in ihr vorhandenes Gruppenprogramm.</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B48264DF-AB18-4FB7-8384-D57F68456A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sondere Angebote</a:t>
            </a:r>
            <a:endParaRPr b="0" lang="en-US" sz="3200" spc="-1" strike="noStrike">
              <a:solidFill>
                <a:srgbClr val="000000"/>
              </a:solidFill>
              <a:latin typeface="Times New Roman"/>
            </a:endParaRPr>
          </a:p>
        </p:txBody>
      </p:sp>
      <p:sp>
        <p:nvSpPr>
          <p:cNvPr id="110" name=""/>
          <p:cNvSpPr/>
          <p:nvPr/>
        </p:nvSpPr>
        <p:spPr>
          <a:xfrm>
            <a:off x="825480" y="1981080"/>
            <a:ext cx="8420040" cy="418716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r>
              <a:rPr b="0" lang="de-DE" sz="2400" spc="-1" strike="noStrike">
                <a:solidFill>
                  <a:srgbClr val="000000"/>
                </a:solidFill>
                <a:latin typeface="Times New Roman"/>
              </a:rPr>
              <a:t>Schuldnerberatung, Geldmanagement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ymptomgemischte Angehörigengruppe (Such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Informations- und Motivationsgruppe f. schwerpunktmäßig </a:t>
            </a:r>
            <a:endParaRPr b="0" lang="en-US" sz="24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lkohol- und Medikamentenabhängig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Begleitung und Zusammenarbeit mit Selbsthilfegruppen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Nachsorge stationärer Therapi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Freundeskreisgruppe“ (Gesundheitsam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Gruppe beschaffungskrimineller Spieler in JVA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Organisation von Fortbildungen zum Thema (Spiel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10F3CB-9DBB-4B81-9888-8FEDC1AD5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2" name=""/>
          <p:cNvSpPr/>
          <p:nvPr/>
        </p:nvSpPr>
        <p:spPr>
          <a:xfrm>
            <a:off x="1981080" y="22860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838080" y="1828800"/>
          <a:ext cx="7925040" cy="4745160"/>
        </p:xfrm>
        <a:graphic>
          <a:graphicData uri="http://schemas.openxmlformats.org/presentationml/2006/ole">
            <p:oleObj progId="Excel.Sheet.12" r:id="rId1" spid="">
              <p:embed/>
              <p:pic>
                <p:nvPicPr>
                  <p:cNvPr id="114" name="" descr=""/>
                  <p:cNvPicPr/>
                  <p:nvPr/>
                </p:nvPicPr>
                <p:blipFill>
                  <a:blip r:embed="rId2"/>
                  <a:stretch/>
                </p:blipFill>
                <p:spPr>
                  <a:xfrm>
                    <a:off x="838080" y="1828800"/>
                    <a:ext cx="7925040" cy="4745160"/>
                  </a:xfrm>
                  <a:prstGeom prst="rect">
                    <a:avLst/>
                  </a:prstGeom>
                  <a:ln w="0">
                    <a:noFill/>
                  </a:ln>
                </p:spPr>
              </p:pic>
            </p:oleObj>
          </a:graphicData>
        </a:graphic>
      </p:graphicFrame>
      <p:sp>
        <p:nvSpPr>
          <p:cNvPr id="3" name="PlaceHolder 2"/>
          <p:cNvSpPr>
            <a:spLocks noGrp="1"/>
          </p:cNvSpPr>
          <p:nvPr>
            <p:ph type="sldNum" idx="3"/>
          </p:nvPr>
        </p:nvSpPr>
        <p:spPr/>
        <p:txBody>
          <a:bodyPr/>
          <a:p>
            <a:fld id="{53333B0E-E954-4575-86CF-C2568F8EC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23 Spieler wurden 1997 in stationäre Maßnahmen vermittelt: 89 Spieler in Suchtkliniken und 34 in Psychosomatik-Kliniken. </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65% der Fälle war die Spielsucht alleinige Diagnose, bei den verbleibenden 35% kamen Substanzabhängigkeiten oder andere psychische Störungen hinzu.</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ür Suchtberatungen, Spielerberatungen und Gesundheitsämter gilt, dass ca. jeder zehnte spielsüchtige Klient stationär vermittelt wurde.</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rogenberatungen haben fast jeden zweiten Klienten stationär untergebracht. Ein Großteil dieser Klienten wies zusätzlich eine stoffgebundene Sucht auf.</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D56662-578A-4C6C-9BBF-1F1BBD9C5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weite Regionen in NRW (Münster, Paderborn, Sieger- u. Sauerland), in denen Spieler und ihre Angehörige keine ambulanten Hilfen zur Verfügung stehen.</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Kapazitäten der Schwerpunktberatungsstellen reichen noch nicht einmal in ihrer Region, um den Beratungsbedarf vollständig zu beantworten. Suchtberatungen springen hier wie auch sonst häufig in die Bresche.</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die Schwerpunktberatungsstellen und einige wenige Suchtberatungen mit hoher Beratungsdichte von Spielern weisen differenzierte Angebote für Spieler und ihre Angehörigen auf.</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A0D22B6-D1C7-43AC-AB60-BF3FF78F8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20" name="PlaceHolder 2"/>
          <p:cNvSpPr>
            <a:spLocks noGrp="1"/>
          </p:cNvSpPr>
          <p:nvPr>
            <p:ph/>
          </p:nvPr>
        </p:nvSpPr>
        <p:spPr>
          <a:xfrm>
            <a:off x="742680" y="1981080"/>
            <a:ext cx="8420040" cy="3733920"/>
          </a:xfrm>
          <a:prstGeom prst="rect">
            <a:avLst/>
          </a:prstGeom>
          <a:noFill/>
          <a:ln w="0">
            <a:noFill/>
          </a:ln>
        </p:spPr>
        <p:txBody>
          <a:bodyPr lIns="90000" rIns="90000" tIns="46800" bIns="46800" anchor="t">
            <a:normAutofit/>
          </a:bodyPr>
          <a:p>
            <a:pPr marL="343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Fazit:</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handenen etablierten Strukturen sind in ihrem Bestand zu sichern und auszubauen, indem weitere Schwerpunktberatungsstellen eingerichtet werden, die ein spezialisiertes und differenziertes Angebot gewährleisten können. Bestehende Suchtberatungsstellen würden sich vielerorts hierfür anbieten.</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Münster, Paderborn und Siegen sind kurzfristig Spielerberatungsstellen einzuricht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1C1B276-7472-4E25-8582-A15B843E6E6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Fragestellung</a:t>
            </a:r>
            <a:endParaRPr b="0" lang="en-US" sz="3200" spc="-1" strike="noStrike">
              <a:solidFill>
                <a:srgbClr val="000000"/>
              </a:solidFill>
              <a:latin typeface="Times New Roman"/>
            </a:endParaRPr>
          </a:p>
        </p:txBody>
      </p:sp>
      <p:sp>
        <p:nvSpPr>
          <p:cNvPr id="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Bezüglich der ungeklärten Situation von Angebot und Bedarf </a:t>
            </a:r>
            <a:endParaRPr b="0" lang="en-US" sz="2500" spc="-1" strike="noStrike">
              <a:solidFill>
                <a:srgbClr val="000000"/>
              </a:solidFill>
              <a:latin typeface="Times New Roman"/>
            </a:endParaRPr>
          </a:p>
          <a:p>
            <a:pPr marL="343080" indent="0">
              <a:lnSpc>
                <a:spcPct val="90000"/>
              </a:lnSpc>
              <a:spcAft>
                <a:spcPts val="15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wurde drei zentralen Fragestellungen nachgegangen:</a:t>
            </a:r>
            <a:r>
              <a:rPr b="0" lang="de-DE"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o finden Spielsüchtige und Angehörige in NRW Hilfe in Form von Beratung und Therapie?</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viele Spielsüchtige und Angehörige nehmen Beratung in Anspruch?</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differenziert sind die Angebotsstrukturen der in der Spielsucht engagierten Beratungsstell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C2835C65-24FF-4946-B291-614C9FE1A7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Methode</a:t>
            </a:r>
            <a:endParaRPr b="0" lang="en-US" sz="3200" spc="-1" strike="noStrike">
              <a:solidFill>
                <a:srgbClr val="000000"/>
              </a:solidFill>
              <a:latin typeface="Times New Roman"/>
            </a:endParaRPr>
          </a:p>
        </p:txBody>
      </p:sp>
      <p:sp>
        <p:nvSpPr>
          <p:cNvPr id="48" name=""/>
          <p:cNvSpPr/>
          <p:nvPr/>
        </p:nvSpPr>
        <p:spPr>
          <a:xfrm>
            <a:off x="685800" y="2286000"/>
            <a:ext cx="8534520" cy="3339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m Frühjahr 1998 wurden alle bei der Deutschen Hauptstelle für Suchtgefahren registrierten Beratungsstellen in NRW angeschrieben. 193 Fragebögen zu den Jahresstatistiken 1997 wurden beantwortet zurückgesendet. Nach Kenntnis der AutorInnen wurden somit alle in der Glücksspielsucht bedeutsamen ambulanten Einrichtungen erfasst.</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liegende Studie ist eine Wiederholung und Erweiterung einer bereits im Jahr 1996 durchgeführten Befragung.</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D39160A7-A89D-4356-8E69-6B32F8DF5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Teilnehmende Beratungsstellen</a:t>
            </a:r>
            <a:endParaRPr b="0" lang="en-US" sz="3200" spc="-1" strike="noStrike">
              <a:solidFill>
                <a:srgbClr val="000000"/>
              </a:solidFill>
              <a:latin typeface="Times New Roman"/>
            </a:endParaRPr>
          </a:p>
        </p:txBody>
      </p:sp>
      <p:sp>
        <p:nvSpPr>
          <p:cNvPr id="50" name=""/>
          <p:cNvSpPr/>
          <p:nvPr/>
        </p:nvSpPr>
        <p:spPr>
          <a:xfrm>
            <a:off x="762120" y="1981080"/>
            <a:ext cx="7772400" cy="3360600"/>
          </a:xfrm>
          <a:prstGeom prst="rect">
            <a:avLst/>
          </a:prstGeom>
          <a:noFill/>
          <a:ln w="0">
            <a:noFill/>
          </a:ln>
        </p:spPr>
        <p:style>
          <a:lnRef idx="0"/>
          <a:fillRef idx="0"/>
          <a:effectRef idx="0"/>
          <a:fontRef idx="minor"/>
        </p:style>
        <p:txBody>
          <a:bodyPr lIns="90000" rIns="90000" tIns="46800" bIns="46800" anchor="t">
            <a:spAutoFit/>
          </a:bodyPr>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09 Beratungsstellen aus dem Bereich 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2 Droge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21 Gesundheitsämter</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 Beratungsstellen für Glücksspiel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3 Telefo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 privates Institu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3 sonstige Beratungsstellen</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1B98964-5B97-41F2-A66F-15672047E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1" name=""/>
          <p:cNvSpPr/>
          <p:nvPr/>
        </p:nvSpPr>
        <p:spPr>
          <a:xfrm>
            <a:off x="825480" y="838080"/>
            <a:ext cx="156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857240" y="590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 name=""/>
          <p:cNvGraphicFramePr/>
          <p:nvPr/>
        </p:nvGraphicFramePr>
        <p:xfrm>
          <a:off x="3457440" y="380880"/>
          <a:ext cx="5716800" cy="5677200"/>
        </p:xfrm>
        <a:graphic>
          <a:graphicData uri="http://schemas.openxmlformats.org/presentationml/2006/ole">
            <p:oleObj r:id="rId1" spid="">
              <p:embed/>
              <p:pic>
                <p:nvPicPr>
                  <p:cNvPr id="54" name="" descr=""/>
                  <p:cNvPicPr/>
                  <p:nvPr/>
                </p:nvPicPr>
                <p:blipFill>
                  <a:blip r:embed="rId2"/>
                  <a:stretch/>
                </p:blipFill>
                <p:spPr>
                  <a:xfrm>
                    <a:off x="3457440" y="380880"/>
                    <a:ext cx="5716800" cy="5677200"/>
                  </a:xfrm>
                  <a:prstGeom prst="rect">
                    <a:avLst/>
                  </a:prstGeom>
                  <a:ln w="9360">
                    <a:solidFill>
                      <a:srgbClr val="0000ff"/>
                    </a:solidFill>
                    <a:miter/>
                  </a:ln>
                </p:spPr>
              </p:pic>
            </p:oleObj>
          </a:graphicData>
        </a:graphic>
      </p:graphicFrame>
      <p:sp>
        <p:nvSpPr>
          <p:cNvPr id="55" name=""/>
          <p:cNvSpPr/>
          <p:nvPr/>
        </p:nvSpPr>
        <p:spPr>
          <a:xfrm>
            <a:off x="495360" y="3809880"/>
            <a:ext cx="2228760" cy="129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ccff"/>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11-20 Klienten in 199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21-4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über 4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Times New Roman"/>
              </a:rPr>
              <a:t>Neuss, Unna, Herford</a:t>
            </a:r>
            <a:r>
              <a:rPr b="0" lang="de-DE" sz="1200" spc="-1" strike="noStrike">
                <a:solidFill>
                  <a:srgbClr val="000000"/>
                </a:solidFill>
                <a:latin typeface="Times New Roman"/>
              </a:rPr>
              <a:t> – Schwerpunktberatungsstelle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0" y="-360"/>
            <a:ext cx="2889360" cy="114300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A917663-BB9A-43CD-AA75-7F6C63DD28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gut versorgte Gebiete in NRW, in denen sich neben den Schwerpunktberatungsstellen (Neuss, Unna, Herford) weitere Beratungsstellen engagier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n Regionen Siegerland, Sauerland, Münster und Paderborn fehlen erfahrene Beratungsstellen. Eine ausreichende ambulante Versorgung ist nicht gewährleistet.</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81C7DCA7-B9E7-4B63-97E2-1358E40E4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0" name="PlaceHolder 2"/>
          <p:cNvSpPr>
            <a:spLocks noGrp="1"/>
          </p:cNvSpPr>
          <p:nvPr>
            <p:ph/>
          </p:nvPr>
        </p:nvSpPr>
        <p:spPr>
          <a:xfrm>
            <a:off x="742680" y="1980720"/>
            <a:ext cx="8420040" cy="358164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684 Einmal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96 Einmalkontakte zu Angehör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1012 Intensiv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79 Intensivkontakte zu Angehörigen</a:t>
            </a:r>
            <a:endParaRPr b="0" lang="en-US" sz="2500" spc="-1" strike="noStrike">
              <a:solidFill>
                <a:srgbClr val="000000"/>
              </a:solidFill>
              <a:latin typeface="Times New Roman"/>
            </a:endParaRPr>
          </a:p>
          <a:p>
            <a:pPr marL="343080" indent="0">
              <a:spcBef>
                <a:spcPts val="1837"/>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imes New Roman"/>
              </a:rPr>
              <a:t>(Intensivkontakt = zwei oder mehr Beratungstermin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85E8855A-6BEF-4CEC-B8F5-C28C4CA17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1320840" y="1905120"/>
          <a:ext cx="7491240" cy="4305240"/>
        </p:xfrm>
        <a:graphic>
          <a:graphicData uri="http://schemas.openxmlformats.org/presentationml/2006/ole">
            <p:oleObj progId="Excel.Sheet.12" r:id="rId1" spid="">
              <p:embed/>
              <p:pic>
                <p:nvPicPr>
                  <p:cNvPr id="64" name="" descr=""/>
                  <p:cNvPicPr/>
                  <p:nvPr/>
                </p:nvPicPr>
                <p:blipFill>
                  <a:blip r:embed="rId2"/>
                  <a:stretch/>
                </p:blipFill>
                <p:spPr>
                  <a:xfrm>
                    <a:off x="1320840" y="1905120"/>
                    <a:ext cx="7491240" cy="4305240"/>
                  </a:xfrm>
                  <a:prstGeom prst="rect">
                    <a:avLst/>
                  </a:prstGeom>
                  <a:ln w="0">
                    <a:noFill/>
                  </a:ln>
                </p:spPr>
              </p:pic>
            </p:oleObj>
          </a:graphicData>
        </a:graphic>
      </p:graphicFrame>
      <p:sp>
        <p:nvSpPr>
          <p:cNvPr id="65" name=""/>
          <p:cNvSpPr/>
          <p:nvPr/>
        </p:nvSpPr>
        <p:spPr>
          <a:xfrm>
            <a:off x="1073160" y="5791320"/>
            <a:ext cx="825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Glücks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74212AD-06A3-45E2-B9A8-0155C1C84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9:20:47Z</dcterms:created>
  <dc:creator>Jens Flassbeck</dc:creator>
  <dc:description/>
  <dc:language>en-US</dc:language>
  <cp:lastModifiedBy>Jens Flassbeck</cp:lastModifiedBy>
  <dcterms:modified xsi:type="dcterms:W3CDTF">2001-05-04T16:24:41Z</dcterms:modified>
  <cp:revision>21</cp:revision>
  <dc:subject/>
  <dc:title>PowerPoint-Präsentation</dc:title>
</cp:coreProperties>
</file>